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707-CB57-4926-819C-B21FFA70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7D5-AE6F-40BA-8493-0B4EBAC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371-FB90-4459-A9FE-00B60A78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995-F331-499B-B138-4126D689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7B2-0D4A-46B1-BD1A-59FD83CA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B1AA-CF56-4D06-94A9-12BD8D7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D2C8-1728-412C-8FE3-4ED6826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A31-C13A-4312-ACF4-28D12D7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75FC-3C76-4B72-A077-738B5BC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2A40-BCDD-4B54-95AD-29BF3CB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9286-AAF9-4F87-804C-8A584C3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095-6E02-4C4F-9CE3-3D098DB0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86D8-E16E-4687-9DF3-7AD12E0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AF30-B453-4029-9D65-C531A5AD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FA45-97E4-4A8B-8815-A4B5540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E3C8-E58D-4B31-8E9E-BF0C1EDF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276-651C-4BF5-BB1B-933F2D8A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FB7-DFF7-4BED-86B9-AD962D1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9F8-DC89-46A0-86C1-D81AFEE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D05-C5EF-48FC-91DC-B23B82CE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C4A-BE79-4609-B758-A08CCD5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CE0-FC08-40DE-B01B-9742EA68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2EB-6EAA-4A86-8395-D71310E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3A7-A1CF-40C8-A954-AAAD492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D3B-7218-4449-BC74-719D50880C7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29F0-B818-4396-AD3A-7836419004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low control instru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mp instruc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ntax 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MP destination_lab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tart : mov ah,2             ;display a charac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v dl,’L’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 21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mp sta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pound if state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(al&gt;op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(al&gt;=op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(al=op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(al&lt;op4) th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lt;statement1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d 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mp  al,op1             ;if al&gt;op1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g    L1                    ;jump to L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mp  al,op2             ;else if al&gt;=op2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ge L1                     ; jump to L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mp al,op3             ; else if al=op3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e L1                      ; jump to L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mp  al,op4            ; else if al&lt;op4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l   L1                    ;jump to L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mp L2                  ;else jump to L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1: &lt;statement&gt;       ;L1:execute &lt;statement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2 :                            ;end if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 loo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80 times 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play ‘*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D_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ode i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V CX,80     ; number of stars to displ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V AH,2       ;display character fun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V DL,’*’     ;character to displa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OP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 21h             ;display a st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OP TOP        ;repeat 80 tim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nge of a Conditional jump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jump instruction requires that destination_label must proceed the jump instruction by no more than 126 by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the CPU implements a conditional jump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1) signed jump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G/JNLE     jump if greater th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F=0 and SF=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GE/JNL     jump if greater than or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equal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mp if not less than equal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F=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signed Conditional jum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A/JNBE      jump if above       if CF=0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F=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B/JNAE     jump if below         if CF=1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mp if not abov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equal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) single-flag jum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E/JZ      jump if equal             if ZF=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mp if equal to 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C          jump if carry              if CF=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CMP instr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jump instruction is often provided by the CMP (compare) 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MP  destination,sour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Eg: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MP AX,B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JZ   TO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rger of Two numb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following code compares the unsigned values in AX and BX and moves the larger of the two to DX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mov dx,ax      ;assume AX is integ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mp ax,bx      ; if AX is &gt;=BX 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jae   loop       ; jump to loop if above or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equ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mov dx,bx      ;else move BX to D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Loop:  mov ax,4c00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t 21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 level language struc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–TH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condition is tr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cute true-branch stat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D-I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mple if state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f (a=b) th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statement1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&lt;statement2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sembly language c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mp  ax,b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e       tr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Jmp  endi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u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lt;statement1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lt;statement2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8:21:14Z</dcterms:created>
  <dc:creator>APIIT</dc:creator>
  <dc:description/>
  <dc:language>en-US</dc:language>
  <cp:lastModifiedBy>APIIT</cp:lastModifiedBy>
  <dcterms:modified xsi:type="dcterms:W3CDTF">2001-09-21T21:33:44Z</dcterms:modified>
  <cp:revision>7</cp:revision>
  <dc:subject/>
  <dc:title>Flow control instructions</dc:title>
</cp:coreProperties>
</file>